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65203025823841"/>
          <c:y val="0.0334626138721025"/>
          <c:w val="0.563472741500739"/>
          <c:h val="0.906286642013169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Cijena usluge</c:v>
                </c:pt>
              </c:strCache>
            </c:strRef>
          </c:tx>
          <c:spPr>
            <a:solidFill>
              <a:srgbClr val="0000ff"/>
            </a:solidFill>
            <a:ln w="0">
              <a:noFill/>
            </a:ln>
          </c:spPr>
          <c:explosion val="50"/>
          <c:dPt>
            <c:idx val="0"/>
            <c:explosion val="5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explosion val="50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explosion val="50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explosion val="50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explosion val="50"/>
            <c:spPr>
              <a:solidFill>
                <a:srgbClr val="7e0021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5"/>
                <c:pt idx="0">
                  <c:v>Naknada za usluge 28</c:v>
                </c:pt>
                <c:pt idx="1">
                  <c:v>Ne korištenje usluge 32</c:v>
                </c:pt>
                <c:pt idx="2">
                  <c:v>Drugi korisnici 3</c:v>
                </c:pt>
                <c:pt idx="3">
                  <c:v>Pravni problemi 46</c:v>
                </c:pt>
                <c:pt idx="4">
                  <c:v>Kvaliteta usluge 42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8</c:v>
                </c:pt>
                <c:pt idx="1">
                  <c:v>32</c:v>
                </c:pt>
                <c:pt idx="2">
                  <c:v>3</c:v>
                </c:pt>
                <c:pt idx="3">
                  <c:v>46</c:v>
                </c:pt>
                <c:pt idx="4">
                  <c:v>4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Krivi obračun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e0021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5"/>
                <c:pt idx="0">
                  <c:v>Naknada za usluge 28</c:v>
                </c:pt>
                <c:pt idx="1">
                  <c:v>Ne korištenje usluge 32</c:v>
                </c:pt>
                <c:pt idx="2">
                  <c:v>Drugi korisnici 3</c:v>
                </c:pt>
                <c:pt idx="3">
                  <c:v>Pravni problemi 46</c:v>
                </c:pt>
                <c:pt idx="4">
                  <c:v>Kvaliteta usluge 42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522867576732458"/>
          <c:y val="0"/>
          <c:w val="0.477066214512413"/>
          <c:h val="0.99990979613927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600" spc="-1" strike="noStrike">
              <a:solidFill>
                <a:srgbClr val="000000"/>
              </a:solidFill>
              <a:latin typeface="Tahoma"/>
            </a:defRPr>
          </a:pPr>
        </a:p>
      </c:txPr>
    </c:legend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67960" y="370836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57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44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292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6796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44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292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6D7-EC88-4BA4-ACC9-F4A41221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67960" y="1697040"/>
            <a:ext cx="7977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393-4184-470E-BD63-187E75E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7977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16A-E9BC-45D2-B199-75F5648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540-DB34-4CFC-83E0-56BFE3CE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C72-ADF4-4240-819D-CC004B0B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67960" y="617040"/>
            <a:ext cx="79772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102-00B5-4987-A0BE-B1437E2C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55E-5904-48B3-97EC-45A9A409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67960" y="1697040"/>
            <a:ext cx="7977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57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AEC-03A3-439D-87EB-D33E3C2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A97-F9A5-4981-B6C1-3682BBD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67960" y="370836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4E1-67BD-4D3A-94EA-1C3DD9CF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57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C26-E51E-4469-BB0D-B4E47788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544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2920" y="169704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6796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544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2920" y="3708360"/>
            <a:ext cx="256860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A39-7521-400F-B3D0-FD11558A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7977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67960" y="617040"/>
            <a:ext cx="797724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5760" y="370836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79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5760" y="1697040"/>
            <a:ext cx="38926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7960" y="3708360"/>
            <a:ext cx="797724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2933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3440" y="1832040"/>
            <a:ext cx="810900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772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67960" y="1697040"/>
            <a:ext cx="7977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5CD2D-A4C4-44B0-9679-6AA193499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360" y="3311280"/>
            <a:ext cx="828036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IMJEN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KONA O ODRŽIVOM GOSPODARENJU OTPADOM (NN 94/13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LANA GOSPODARENJA OTPADOM REPUBLIKE HRVATSKE ZA RAZDOBLJE 2017. - 2022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863640"/>
            <a:ext cx="82072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SAVJETOVANJE POTROŠAČA U OPĆ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LOVR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ONEDJELJAK 20.11.2017. GODINE U 17 SAT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U VIJEĆNICI OPĆINE LOVRAN, ŠETALIŠTE MARŠALA TITA 41/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851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avni problemi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1655280"/>
            <a:ext cx="82929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6000"/>
          </a:bodyPr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žno je naglasiti dinamiku u realizaciji planiranih aktivnost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kladiti zahtjeve potrošača s uredbom, zakonom i plan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cizno definirati uloge čelnike jedinica lokalne samoupr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sigurati pogodnosti za kvalitetno provođenje selekcije otp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ogovor o lokacijama reciklažnih dvoriš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avedno formiranje povjerenstava za reklamacije potrošač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finirati transparentne poslovnike za rad tijela potrošača u J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otaknuti potrošače na aktivno ukazivanje na neadekvatnu uslugu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67960" y="1696680"/>
            <a:ext cx="7983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2592360"/>
            <a:ext cx="972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160" y="4967280"/>
            <a:ext cx="9709200" cy="170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7092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ahoma"/>
                <a:ea typeface="TimesNewRomanPSMT"/>
              </a:rPr>
              <a:t>Broj reciklažnih dvorišta u pojedinim županijama u 2016.(HAOP, Listopad 2016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imesNewRomanPSMT"/>
              </a:rPr>
              <a:t>Ukupni broj uspostavljenih reciklažnih dvorišta, uključujući i mobilne jedinice, nije zadovoljavajući te ga je u narednom razdoblju potrebno povećati. U tu svrhu potrebno je nastaviti s izgradnjom reciklažnih dvorišta, odnosno nabavom mobilnih reciklažnih dvoriš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7960" y="617040"/>
            <a:ext cx="79851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ktivna suradnja do 2022.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6840" y="1574640"/>
            <a:ext cx="8188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8000"/>
          </a:bodyPr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sigurati bolju suradnju JLS i potrošačkih udru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naprijediti sustav gospodarenja komunalnim otpa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zdvojiti dobre primjere iz prakse komunalnih društa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praviti projekcije za nova tehnička rješenja prikuplj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rganizirati savjetovanja potrošača sa nezavisnim predavač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ontinuirano provoditi informativne aktivnosti putem med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bavijestiti nadležna ministarstva o suradnji sa J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ktivni nadzor nad gospodarenjem otpa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880" indent="-314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anirati lokacije onečišćene otpa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8520" t="6340" r="7480" b="5640"/>
          <a:stretch/>
        </p:blipFill>
        <p:spPr>
          <a:xfrm>
            <a:off x="4103640" y="23097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563040"/>
            <a:ext cx="820908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VALA  NA  SURAD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24240" y="4189320"/>
            <a:ext cx="3213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TROŠAČKI  C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umičićeva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j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7760" y="576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600" spc="-1" strike="noStrike">
                <a:solidFill>
                  <a:srgbClr val="83caff"/>
                </a:solidFill>
                <a:latin typeface="Tahoma"/>
              </a:rPr>
              <a:t>POTROŠAČI I  </a:t>
            </a:r>
            <a:br>
              <a:rPr sz="3600"/>
            </a:br>
            <a:r>
              <a:rPr b="1" lang="hr-HR" sz="3600" spc="-1" strike="noStrike">
                <a:solidFill>
                  <a:srgbClr val="83caff"/>
                </a:solidFill>
                <a:latin typeface="Tahoma"/>
              </a:rPr>
              <a:t> GOSPODARENJE OTPA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3878280"/>
            <a:ext cx="82803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Arial Unicode MS"/>
              </a:rPr>
              <a:t>POTROŠAČKI  CEN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Marko Paripovi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7200" y="576000"/>
            <a:ext cx="82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valitetno gospodarenje otpa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720" y="2096640"/>
            <a:ext cx="8236080" cy="3519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4000"/>
          </a:bodyPr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avno utemeljena naknada za prikupljanje komunalnog otp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valitetna i lako dostupna usluga adekvatnog kapacitet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Jednostavno definiranje kriterija za obračun uslu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inimalni rizik za zdravlje i okoliš, uz visoku kvalitetu živo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dukcija građana o planovima kroz primjeren vremenski perio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valitetna logistika za komunalne redare i inspekc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dukacija za ovlaštene predstavnike suvlasnik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praviti kampanju o evidencji korisnika usluge i njihove surad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576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govori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728720"/>
            <a:ext cx="8280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5000"/>
          </a:bodyPr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knada za usluge nije u skladu s zakonom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rive informacije za obračun stvaraju krive raču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adekvatno pozicioniranje posude za komunalni otp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dovoljan intenzitet pražnjenja posuda za komunalni otp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klamacije na ponašanje drugih korisnika komunalne uslu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kupljanje razvrstanog otpada u jedno vozilo ili mješanje frakc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plata komunalne usluge na lokacijama gdje nema otp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3920" indent="-30456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kvalitetna usluga, zagađenje okoliša i širenje neugodnih miri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73120"/>
            <a:ext cx="828036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liza prigovora povjerenstvu za reklamacije potrošača KD Čistoć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o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2416320"/>
            <a:ext cx="828036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6000"/>
          </a:bodyPr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aliza je rađena za period od 2008. do studenog 2017. god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orištene su reklamacije korisnika usluge KD ČISTOĆA iz Rije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Zapisnici sjednica su u arhivi Udruge Potrošački centar iz Rije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 prosjeku povjerenstvo razmotri tri reklamacije po sjedni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otrošač odgovor na reklamaciju mora dobiti u roku od 30 d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a odgovor koji je odluka iz zapisnika potrošači se ne mogu žali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8240" indent="-3078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sim reklamacije potrošači mogu pokrenuti upravni postupak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617040"/>
            <a:ext cx="79837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Analiza 151 reklamacije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97040"/>
          <a:ext cx="8280360" cy="3990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0720" y="503280"/>
            <a:ext cx="828036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20720" y="3095640"/>
            <a:ext cx="828036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20720" y="5762520"/>
            <a:ext cx="8280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  <a:ea typeface="TimesNewRomanPSMT"/>
              </a:rPr>
              <a:t>Specifična količina proizvedenog komunalnog otpada u 2015., po župan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  <a:ea typeface="TimesNewRomanPSMT"/>
              </a:rPr>
              <a:t>(HAOP, 201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525600"/>
            <a:ext cx="42782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ječka  572 kg po stanov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grebačka 2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0360" y="503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sutn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3440" y="1439640"/>
            <a:ext cx="8116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1000"/>
          </a:bodyPr>
          <a:p>
            <a:pPr marL="387000" indent="-2916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adekvatan postupak zbrinjavanja s lošim financijskim plan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bacivanje troškova problematičnog poslovanja na potrošač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Količine proizvedenog komunalnog otpada u Istarskoj i Primorsko goranskoj županiji su daleko veće od onih u kontinentalnom dijelu države, vjerovatno zbog turizma i loše evidenc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ako je prihvatiti koristi od turizma i zaboraviti što je sve potrebno za veće kapacitete u svim segmentima gospodarenja otpadom, i najvažnije koja je cijena tako velikog hladnog pog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roškove povećanih kapaciteta koji su vezani za turizam i druge probleme nastale zbog većeg broja korisnika usluge u jednom dijelu godine, nije pošteno prebaciti samo na lokalne potrošač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720" y="560160"/>
            <a:ext cx="82072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Sustav gospodarenja komunalnim otpad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" y="1800360"/>
            <a:ext cx="813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Kako bi zaustavili trend rasta proizvedenog komunalnog otpada, potrebno je uspostaviti sustav gospodarenja komunalnim otpadom koji potiče sprječavanje nastanka otpada, odvajanje otpada na mjestu nastanka i da ima infrastrukturu koja omogućuje gospodarenje otpadom sukladno redu prvenstva gospodarenja otpadom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1. Sprječavanje nastanka otpad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2. priprema za ponovnu uporabu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3. recikliranj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4. drugi postupci oporabe npr. energetska oporaba 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imesNewRomanPSMT"/>
              </a:rPr>
              <a:t>5. zbrinjavanje otp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1T23:34:54Z</dcterms:created>
  <dc:creator>Marko Paripović</dc:creator>
  <dc:description>General introduction of a new product taking customer wishes into account</dc:description>
  <dc:language>en-US</dc:language>
  <cp:lastModifiedBy>Marko Paripović</cp:lastModifiedBy>
  <cp:lastPrinted>2017-11-01T22:25:49Z</cp:lastPrinted>
  <dcterms:modified xsi:type="dcterms:W3CDTF">2017-11-13T17:02:10Z</dcterms:modified>
  <cp:revision>38</cp:revision>
  <dc:subject/>
  <dc:title>Potrošači i gospodari</dc:title>
</cp:coreProperties>
</file>